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4984-D5BB-43F9-AC89-0FDCDADE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6681-DD25-4BDD-8D4A-A78C3A2E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620-7805-424F-BDD0-F2E9732B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DD5-D6C2-465D-A467-1B0D4450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91F7-2733-4615-A80E-289C6CC4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A5ED-F602-4E05-B3A1-5B2E08DF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DF0-F2B4-4DB9-99C3-BDEEE947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8BD-126B-4B99-9B06-F726EF66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0B39-205D-4E72-8EC3-1EF1401C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22A5-95FD-4837-B719-FDB3EE54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9CCF-8D25-4379-911A-9C02C3E6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6EF9-2531-4171-8BE6-0C60FD01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A505-2A6E-4EEF-BD86-680057005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ing Powerpoint to Wikispac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2:32:43Z</dcterms:created>
  <dc:creator>Oswego School District</dc:creator>
  <dc:description/>
  <dc:language>en-US</dc:language>
  <cp:lastModifiedBy>Oswego School District</cp:lastModifiedBy>
  <dcterms:modified xsi:type="dcterms:W3CDTF">2009-02-17T22:33:00Z</dcterms:modified>
  <cp:revision>1</cp:revision>
  <dc:subject/>
  <dc:title>Linking Powerpoint to Wikispaces!</dc:title>
</cp:coreProperties>
</file>